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2D76-CBB0-4DAC-A679-53A4FF26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5BEA-1510-4A32-935A-41AE820B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21EF-67E7-49E9-B7C5-98187E57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9DB2-A4C7-4D65-999E-7C7F2E2B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6F0B-68E6-4E79-8E95-074818BA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1799-C9B1-47C3-9F7F-C31ABC8B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9EC8-4B0E-40D1-A88B-1791685C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D082-1725-4806-8490-9D3AB27F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DA87-F4E1-4785-A93D-182CA937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6E8F-AA56-4234-8BEC-F3227B5A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2E44-6463-4D56-BC7A-A62887C2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7036-AA84-4335-82A4-A701830D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18D7-8FAE-45A5-9871-974968D2738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5791320" y="4643280"/>
            <a:ext cx="3352680" cy="221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-1204920" y="0"/>
            <a:ext cx="115538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800" spc="-1" strike="noStrike">
                <a:solidFill>
                  <a:srgbClr val="ffffff"/>
                </a:solidFill>
                <a:latin typeface="Calibri"/>
              </a:rPr>
              <a:t>Austri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http://www.youtube.com/user/austriatourism#p/u/1/DXzng6UTE4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rcRect l="18606" t="20731" r="12791" b="11565"/>
          <a:stretch/>
        </p:blipFill>
        <p:spPr>
          <a:xfrm>
            <a:off x="0" y="-428760"/>
            <a:ext cx="9144000" cy="75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1785960"/>
            <a:ext cx="9221760" cy="5072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Austria -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57120" y="1428480"/>
            <a:ext cx="8229600" cy="45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Area: 83,500 km2 (Korea: 100,210 km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Inhabitants: 8 Million (Korea: 50 Mill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Currency: Euro € (1 € = 1,500 W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Capital: Vien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Highest Mountain: Großglockner (3,798 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Biggest River: Danu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Austria – some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Calibri"/>
              </a:rPr>
              <a:t>Can you speak German? YES, you can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kindergar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hambur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handst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noo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pretz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wunderki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doppelgän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2095200" cy="2981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2786040" y="214200"/>
            <a:ext cx="2095560" cy="3238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5072040" y="214200"/>
            <a:ext cx="3333600" cy="21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4"/>
          <a:stretch/>
        </p:blipFill>
        <p:spPr>
          <a:xfrm>
            <a:off x="4210200" y="3571920"/>
            <a:ext cx="4933800" cy="3286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5"/>
          <a:stretch/>
        </p:blipFill>
        <p:spPr>
          <a:xfrm>
            <a:off x="6215040" y="1143000"/>
            <a:ext cx="2643120" cy="2643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6"/>
          <a:stretch/>
        </p:blipFill>
        <p:spPr>
          <a:xfrm>
            <a:off x="3214800" y="2214720"/>
            <a:ext cx="3171600" cy="3074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7"/>
          <a:stretch/>
        </p:blipFill>
        <p:spPr>
          <a:xfrm>
            <a:off x="285840" y="3357720"/>
            <a:ext cx="4600440" cy="306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8"/>
          <a:stretch/>
        </p:blipFill>
        <p:spPr>
          <a:xfrm>
            <a:off x="1285920" y="1500120"/>
            <a:ext cx="67150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An Austrian went yode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nce an Austrian went yodel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n a mountain top hig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when along came an everlan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interrupting his c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di-ri-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hollarediria hollare gug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hollarediria hollare gug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hollarediria hollare gug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hollarediria h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07:15:43Z</dcterms:created>
  <dc:creator>Maria Hitzginger</dc:creator>
  <dc:description/>
  <dc:language>en-US</dc:language>
  <cp:lastModifiedBy>Maria Hitzginger</cp:lastModifiedBy>
  <dcterms:modified xsi:type="dcterms:W3CDTF">2011-09-21T22:02:09Z</dcterms:modified>
  <cp:revision>12</cp:revision>
  <dc:subject/>
  <dc:title>Folie 1</dc:title>
</cp:coreProperties>
</file>